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deea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08F9-88CE-490E-A3B0-807F9BF6B0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F33D-E829-491C-BCC4-397CDBA647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A33F-22D2-4585-93FC-A46443805F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5747-9EEF-46BB-8277-735DF8FFA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3964320"/>
            <a:ext cx="71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BE84-9E04-4869-BBD0-17CBC4A5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408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7369-2B2C-4611-A44A-D13B97A7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45240" y="160020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7320" y="160020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396432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45240" y="396432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7320" y="396432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A2AD-6B15-4E1A-B2EA-482741E8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BBF0-54B0-4AE7-BB64-92CC9F61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75DE-451B-4440-9C4A-005F256D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319D-E0D4-4A82-9DAC-C7A1F4B9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5560-9036-4E22-B7C1-FAC7172F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691B-5E70-42AC-B13F-0F773324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520" y="2743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B614-31BD-455D-8939-53A8BE6A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CD11-962B-4616-8D31-C8D3DA32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1CDB-406D-4E8C-BD55-DC295FD3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408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DD83-6D5C-480F-ADAB-E1BD0ABD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964320"/>
            <a:ext cx="71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2376-125A-4931-9C32-A2FCF1E2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3964320"/>
            <a:ext cx="71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A62E-42D5-4217-9D1C-7019ACCD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408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9A22-E5AE-42DC-A3F3-9900505B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5240" y="160020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7320" y="160020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396432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5240" y="396432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7320" y="396432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53BE-C4C9-485A-B0C5-DC28602D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87C9-60A5-4666-AAB4-47FB77D4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CB3D-E2BD-4467-9BB8-00C586DD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6788-C1BE-4781-8046-1F88021F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520" y="2743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2DA2-8FC9-4571-8402-1968AB3E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01E8-3AED-4794-8A5D-4AA8C732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408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D59F-BEA2-493C-B2B0-135FF410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3964320"/>
            <a:ext cx="71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8EFC-5050-43A1-82A4-474ED5F3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deea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c4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c4d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d8c4d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c4d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d8c4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c4d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d8c4d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c4d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d8c4d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c4d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c4d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c4d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3880" y="6356520"/>
            <a:ext cx="1981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2480" y="6356520"/>
            <a:ext cx="1984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62C6-F8C0-42E6-A88F-D2B8D966C2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deea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c4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c4d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d8c4d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c4d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d8c4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c4d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d8c4d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c4d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d8c4d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c4d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c4d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c4d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523880" y="6356520"/>
            <a:ext cx="1981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657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02480" y="6356520"/>
            <a:ext cx="1984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3EB9-0A51-4569-BF8A-E20CECFDC6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076640"/>
            <a:ext cx="807696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9deea"/>
                </a:solidFill>
                <a:latin typeface="Arial"/>
              </a:rPr>
              <a:t>ВОСПИТАНИЕ ГРАЖДАНСКО-ПАТРИОТИЧЕСКИХ КАЧЕСТВ ОБУЧАЮЩИХСЯ ПУТЕМ ИНТЕГРАЦИИ ИССЛЕДОВАТЕЛЬСКОЙ ДЕЯТЕЛЬНОСТИ И ИЗУЧЕНИЯ ИСТОРИИ</a:t>
            </a:r>
            <a:br>
              <a:rPr sz="2400"/>
            </a:br>
            <a:r>
              <a:rPr b="1" lang="ru-RU" sz="1800" spc="-1" strike="noStrike">
                <a:solidFill>
                  <a:srgbClr val="e9deea"/>
                </a:solidFill>
                <a:latin typeface="Arial"/>
              </a:rPr>
              <a:t>Бушова С.А., учитель истории ГБОУ СОШ с.Красный Яр</a:t>
            </a:r>
            <a:endParaRPr b="1" lang="en-US" sz="18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28760" y="-571680"/>
            <a:ext cx="8215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d8c4d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9deea"/>
                </a:solidFill>
                <a:latin typeface="Arial"/>
              </a:rPr>
              <a:t>«Учителями славится Россия, ученики приносят славу ей»</a:t>
            </a:r>
            <a:endParaRPr b="1" lang="en-US" sz="2400" spc="-1" strike="noStrike">
              <a:solidFill>
                <a:srgbClr val="e9deea"/>
              </a:solidFill>
              <a:latin typeface="Arial"/>
            </a:endParaRPr>
          </a:p>
        </p:txBody>
      </p:sp>
      <p:pic>
        <p:nvPicPr>
          <p:cNvPr id="118" name="Содержимое 3" descr="41.jpg"/>
          <p:cNvPicPr/>
          <p:nvPr/>
        </p:nvPicPr>
        <p:blipFill>
          <a:blip r:embed="rId1"/>
          <a:stretch/>
        </p:blipFill>
        <p:spPr>
          <a:xfrm>
            <a:off x="1428840" y="1428840"/>
            <a:ext cx="75009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71760" y="285840"/>
            <a:ext cx="716256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deea"/>
                </a:solidFill>
                <a:latin typeface="Arial"/>
              </a:rPr>
              <a:t>«Церковь Михаила Архангела в с.Красный Яр»</a:t>
            </a:r>
            <a:endParaRPr b="1" lang="en-US" sz="3200" spc="-1" strike="noStrike">
              <a:solidFill>
                <a:srgbClr val="e9deea"/>
              </a:solidFill>
              <a:latin typeface="Arial"/>
            </a:endParaRPr>
          </a:p>
        </p:txBody>
      </p:sp>
      <p:pic>
        <p:nvPicPr>
          <p:cNvPr id="120" name="Picture 3" descr="C:\Documents and Settings\Бушова\Мои документы\научное общество учащихся\конф.Быкова\фото Кр.Яр\264_0134863b.jpg"/>
          <p:cNvPicPr/>
          <p:nvPr/>
        </p:nvPicPr>
        <p:blipFill>
          <a:blip r:embed="rId1"/>
          <a:stretch/>
        </p:blipFill>
        <p:spPr>
          <a:xfrm>
            <a:off x="2071800" y="1857240"/>
            <a:ext cx="61434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6920" y="549360"/>
            <a:ext cx="770580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9deea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e9deea"/>
                </a:solidFill>
                <a:latin typeface="Arial"/>
              </a:rPr>
              <a:t>Ресурсы:</a:t>
            </a:r>
            <a:br>
              <a:rPr sz="4400"/>
            </a:br>
            <a:r>
              <a:rPr b="1" lang="ru-RU" sz="4400" spc="-1" strike="noStrike" u="sng">
                <a:solidFill>
                  <a:srgbClr val="0000ff"/>
                </a:solidFill>
                <a:uFillTx/>
                <a:latin typeface="Arial"/>
              </a:rPr>
              <a:t>https://самарскийкрай.рф</a:t>
            </a: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pic>
        <p:nvPicPr>
          <p:cNvPr id="122" name="Рисунок 4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5951880" cy="47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deea"/>
                </a:solidFill>
                <a:latin typeface="Arial"/>
              </a:rPr>
              <a:t>Гражданско-патриотическое  воспитание должно ориентироваться не только на любви к Родине, но и веры в себя, в собственные силы, в великие свершения наших отцов и дедов.</a:t>
            </a:r>
            <a:endParaRPr b="1" lang="en-US" sz="3200" spc="-1" strike="noStrike">
              <a:solidFill>
                <a:srgbClr val="e9de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99880" y="-785880"/>
            <a:ext cx="55436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142640" y="0"/>
            <a:ext cx="80010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8c4da"/>
                </a:solidFill>
                <a:latin typeface="Calibri"/>
              </a:rPr>
              <a:t>                           </a:t>
            </a:r>
            <a:r>
              <a:rPr b="0" i="1" lang="ru-RU" sz="3200" spc="-1" strike="noStrike">
                <a:solidFill>
                  <a:srgbClr val="d8c4da"/>
                </a:solidFill>
                <a:latin typeface="Calibri"/>
              </a:rPr>
              <a:t>Историческое значение каждого русского человека 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8c4da"/>
                </a:solidFill>
                <a:latin typeface="Calibri"/>
              </a:rPr>
              <a:t>                                       </a:t>
            </a:r>
            <a:r>
              <a:rPr b="0" i="1" lang="ru-RU" sz="3200" spc="-1" strike="noStrike">
                <a:solidFill>
                  <a:srgbClr val="d8c4da"/>
                </a:solidFill>
                <a:latin typeface="Calibri"/>
              </a:rPr>
              <a:t>измеряется его заслугами Родине, его человеческое 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8c4da"/>
                </a:solidFill>
                <a:latin typeface="Calibri"/>
              </a:rPr>
              <a:t>                                      </a:t>
            </a:r>
            <a:r>
              <a:rPr b="0" i="1" lang="ru-RU" sz="3200" spc="-1" strike="noStrike">
                <a:solidFill>
                  <a:srgbClr val="d8c4da"/>
                </a:solidFill>
                <a:latin typeface="Calibri"/>
              </a:rPr>
              <a:t>достоинство – силой его патриотизма.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8c4da"/>
                </a:solidFill>
                <a:latin typeface="Calibri"/>
              </a:rPr>
              <a:t>                                                                                       </a:t>
            </a:r>
            <a:r>
              <a:rPr b="0" i="1" lang="en-US" sz="3200" spc="-1" strike="noStrike">
                <a:solidFill>
                  <a:srgbClr val="d8c4da"/>
                </a:solidFill>
                <a:latin typeface="Calibri"/>
              </a:rPr>
              <a:t>           </a:t>
            </a:r>
            <a:r>
              <a:rPr b="0" i="1" lang="ru-RU" sz="3200" spc="-1" strike="noStrike">
                <a:solidFill>
                  <a:srgbClr val="d8c4da"/>
                </a:solidFill>
                <a:latin typeface="Calibri"/>
              </a:rPr>
              <a:t>Н.Г.Чернышевский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9deea"/>
                </a:solidFill>
                <a:latin typeface="Arial"/>
              </a:rPr>
              <a:t>Формы краеведческой работы</a:t>
            </a:r>
            <a:endParaRPr b="1" lang="en-US" sz="40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3505320" cy="17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8c4da"/>
                </a:solidFill>
                <a:latin typeface="Calibri"/>
              </a:rPr>
              <a:t>урочная 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8c4da"/>
                </a:solidFill>
                <a:latin typeface="Calibri"/>
              </a:rPr>
              <a:t>Учебный предмет «История» 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81120" y="1534680"/>
            <a:ext cx="35053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8c4da"/>
                </a:solidFill>
                <a:latin typeface="Calibri"/>
              </a:rPr>
              <a:t>внеурочная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181120" y="2174760"/>
            <a:ext cx="35053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8c4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8c4da"/>
                </a:solidFill>
                <a:latin typeface="Calibri"/>
              </a:rPr>
              <a:t>Поисковые экспедиции</a:t>
            </a:r>
            <a:endParaRPr b="0" lang="en-US" sz="2400" spc="-1" strike="noStrike">
              <a:solidFill>
                <a:srgbClr val="d8c4d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d8c4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8c4da"/>
                </a:solidFill>
                <a:latin typeface="Calibri"/>
              </a:rPr>
              <a:t>Туризм</a:t>
            </a:r>
            <a:endParaRPr b="0" lang="en-US" sz="2400" spc="-1" strike="noStrike">
              <a:solidFill>
                <a:srgbClr val="d8c4d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d8c4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8c4da"/>
                </a:solidFill>
                <a:latin typeface="Calibri"/>
              </a:rPr>
              <a:t>Краеведческие кружки</a:t>
            </a:r>
            <a:endParaRPr b="0" lang="en-US" sz="2400" spc="-1" strike="noStrike">
              <a:solidFill>
                <a:srgbClr val="d8c4d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d8c4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8c4da"/>
                </a:solidFill>
                <a:latin typeface="Calibri"/>
              </a:rPr>
              <a:t>Декады истории</a:t>
            </a:r>
            <a:endParaRPr b="0" lang="en-US" sz="2400" spc="-1" strike="noStrike">
              <a:solidFill>
                <a:srgbClr val="d8c4d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d8c4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8c4da"/>
                </a:solidFill>
                <a:latin typeface="Calibri"/>
              </a:rPr>
              <a:t>Конкурсы</a:t>
            </a:r>
            <a:endParaRPr b="0" lang="en-US" sz="2400" spc="-1" strike="noStrike">
              <a:solidFill>
                <a:srgbClr val="d8c4d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d8c4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8c4da"/>
                </a:solidFill>
                <a:latin typeface="Calibri"/>
              </a:rPr>
              <a:t>Олимпиады</a:t>
            </a:r>
            <a:endParaRPr b="0" lang="en-US" sz="2400" spc="-1" strike="noStrike">
              <a:solidFill>
                <a:srgbClr val="d8c4d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d8c4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8c4da"/>
                </a:solidFill>
                <a:latin typeface="Calibri"/>
              </a:rPr>
              <a:t>Школьный музей</a:t>
            </a:r>
            <a:endParaRPr b="0" lang="en-US" sz="2400" spc="-1" strike="noStrike">
              <a:solidFill>
                <a:srgbClr val="d8c4da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979640" y="3429000"/>
            <a:ext cx="25812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9deea"/>
                </a:solidFill>
                <a:latin typeface="Arial"/>
              </a:rPr>
              <a:t>ФЕДЕРАЛЬНАЯ РАБОЧАЯ ПРОГРАММА ОСНОВНОГО ОБЩЕГО ОБРАЗОВАНИЯ</a:t>
            </a:r>
            <a:br>
              <a:rPr sz="1600"/>
            </a:br>
            <a:r>
              <a:rPr b="1" lang="ru-RU" sz="1600" spc="-1" strike="noStrike">
                <a:solidFill>
                  <a:srgbClr val="e9deea"/>
                </a:solidFill>
                <a:latin typeface="Arial"/>
              </a:rPr>
              <a:t> </a:t>
            </a:r>
            <a:br>
              <a:rPr sz="1600"/>
            </a:br>
            <a:r>
              <a:rPr b="1" lang="ru-RU" sz="1600" spc="-1" strike="noStrike">
                <a:solidFill>
                  <a:srgbClr val="e9deea"/>
                </a:solidFill>
                <a:latin typeface="Arial"/>
              </a:rPr>
              <a:t>ИСТОРИЯ</a:t>
            </a:r>
            <a:br>
              <a:rPr sz="1600"/>
            </a:br>
            <a:endParaRPr b="1" lang="en-US" sz="16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520" y="1534680"/>
            <a:ext cx="3505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23520" y="2174760"/>
            <a:ext cx="35053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8c4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81120" y="1534680"/>
            <a:ext cx="3505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d8c4da"/>
              </a:solidFill>
              <a:latin typeface="Calibri"/>
            </a:endParaRPr>
          </a:p>
        </p:txBody>
      </p:sp>
      <p:pic>
        <p:nvPicPr>
          <p:cNvPr id="102" name="Объект 10" descr=""/>
          <p:cNvPicPr/>
          <p:nvPr/>
        </p:nvPicPr>
        <p:blipFill>
          <a:blip r:embed="rId1"/>
          <a:stretch/>
        </p:blipFill>
        <p:spPr>
          <a:xfrm>
            <a:off x="5029200" y="1535040"/>
            <a:ext cx="3935520" cy="45910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8" descr=""/>
          <p:cNvPicPr/>
          <p:nvPr/>
        </p:nvPicPr>
        <p:blipFill>
          <a:blip r:embed="rId2"/>
          <a:stretch/>
        </p:blipFill>
        <p:spPr>
          <a:xfrm>
            <a:off x="1397160" y="1535040"/>
            <a:ext cx="350496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9deea"/>
                </a:solidFill>
                <a:latin typeface="Arial"/>
              </a:rPr>
              <a:t>Исследовательская деятельность по вопросам краеведения - важное средство воспитания гражданственности и патриотизма</a:t>
            </a:r>
            <a:endParaRPr b="1" lang="en-US" sz="2400" spc="-1" strike="noStrike">
              <a:solidFill>
                <a:srgbClr val="e9deea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520" y="1535040"/>
            <a:ext cx="3505320" cy="210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8c4da"/>
                </a:solidFill>
                <a:latin typeface="Calibri"/>
              </a:rPr>
              <a:t>активная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d8c4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8c4da"/>
                </a:solidFill>
                <a:latin typeface="Calibri"/>
              </a:rPr>
              <a:t>Поиск</a:t>
            </a:r>
            <a:endParaRPr b="0" lang="en-US" sz="2000" spc="-1" strike="noStrike">
              <a:solidFill>
                <a:srgbClr val="d8c4da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d8c4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8c4da"/>
                </a:solidFill>
                <a:latin typeface="Calibri"/>
              </a:rPr>
              <a:t>Туризм</a:t>
            </a:r>
            <a:endParaRPr b="0" lang="en-US" sz="2000" spc="-1" strike="noStrike">
              <a:solidFill>
                <a:srgbClr val="d8c4da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d8c4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8c4da"/>
                </a:solidFill>
                <a:latin typeface="Calibri"/>
              </a:rPr>
              <a:t>Краеведческая деятельность</a:t>
            </a:r>
            <a:endParaRPr b="0" lang="en-US" sz="2000" spc="-1" strike="noStrike">
              <a:solidFill>
                <a:srgbClr val="d8c4da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8c4da"/>
                </a:solidFill>
                <a:latin typeface="Calibri"/>
              </a:rPr>
              <a:t>             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81120" y="1534680"/>
            <a:ext cx="35053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8c4da"/>
                </a:solidFill>
                <a:latin typeface="Calibri"/>
              </a:rPr>
              <a:t>пассивная</a:t>
            </a:r>
            <a:endParaRPr b="0" lang="en-US" sz="3200" spc="-1" strike="noStrike">
              <a:solidFill>
                <a:srgbClr val="d8c4da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181120" y="2174400"/>
            <a:ext cx="3505320" cy="16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8c4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8c4da"/>
                </a:solidFill>
                <a:latin typeface="Calibri"/>
              </a:rPr>
              <a:t>Работа с документами</a:t>
            </a:r>
            <a:endParaRPr b="0" lang="en-US" sz="2400" spc="-1" strike="noStrike">
              <a:solidFill>
                <a:srgbClr val="d8c4d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d8c4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8c4da"/>
                </a:solidFill>
                <a:latin typeface="Calibri"/>
              </a:rPr>
              <a:t>Проведение экскурсий в школьном музее</a:t>
            </a:r>
            <a:endParaRPr b="0" lang="en-US" sz="2400" spc="-1" strike="noStrike">
              <a:solidFill>
                <a:srgbClr val="d8c4da"/>
              </a:solidFill>
              <a:latin typeface="Calibri"/>
            </a:endParaRPr>
          </a:p>
        </p:txBody>
      </p:sp>
      <p:pic>
        <p:nvPicPr>
          <p:cNvPr id="108" name="Picture 7" descr="C:\Documents and Settings\Бушова\Мои документы\Год охраны окруж.среды-2013\прошкина\фото\DSC_1725.jpg"/>
          <p:cNvPicPr/>
          <p:nvPr/>
        </p:nvPicPr>
        <p:blipFill>
          <a:blip r:embed="rId1"/>
          <a:stretch/>
        </p:blipFill>
        <p:spPr>
          <a:xfrm>
            <a:off x="1071720" y="3776760"/>
            <a:ext cx="65721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499680"/>
            <a:ext cx="716292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9deea"/>
                </a:solidFill>
                <a:latin typeface="Arial"/>
              </a:rPr>
              <a:t>«Очерк истории Красного Яра»</a:t>
            </a:r>
            <a:endParaRPr b="1" lang="en-US" sz="4000" spc="-1" strike="noStrike">
              <a:solidFill>
                <a:srgbClr val="e9deea"/>
              </a:solidFill>
              <a:latin typeface="Arial"/>
            </a:endParaRPr>
          </a:p>
        </p:txBody>
      </p:sp>
      <p:pic>
        <p:nvPicPr>
          <p:cNvPr id="110" name="Picture 4" descr="C:\Documents and Settings\Бушова\Мои документы\научное общество учащихся\конф.Быкова\фото Кр.Яр\domkorobova.jpg"/>
          <p:cNvPicPr/>
          <p:nvPr/>
        </p:nvPicPr>
        <p:blipFill>
          <a:blip r:embed="rId1"/>
          <a:stretch/>
        </p:blipFill>
        <p:spPr>
          <a:xfrm>
            <a:off x="1886040" y="2071800"/>
            <a:ext cx="643896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71760" y="2854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9deea"/>
                </a:solidFill>
                <a:latin typeface="Arial"/>
              </a:rPr>
              <a:t>«Женщины в годы войны»</a:t>
            </a: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pic>
        <p:nvPicPr>
          <p:cNvPr id="112" name="Picture 4" descr="C:\Documents and Settings\Бушова\Мои документы\Документы сканера\Жещины в годы войны.jpg"/>
          <p:cNvPicPr/>
          <p:nvPr/>
        </p:nvPicPr>
        <p:blipFill>
          <a:blip r:embed="rId1"/>
          <a:stretch/>
        </p:blipFill>
        <p:spPr>
          <a:xfrm>
            <a:off x="2643120" y="1571760"/>
            <a:ext cx="44290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71760" y="285480"/>
            <a:ext cx="757224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9deea"/>
                </a:solidFill>
                <a:latin typeface="Arial"/>
              </a:rPr>
              <a:t>«Архитектурная застройка Красного Яра в </a:t>
            </a:r>
            <a:r>
              <a:rPr b="1" lang="en-US" sz="4000" spc="-1" strike="noStrike">
                <a:solidFill>
                  <a:srgbClr val="e9deea"/>
                </a:solidFill>
                <a:latin typeface="Arial"/>
              </a:rPr>
              <a:t>XIX </a:t>
            </a:r>
            <a:r>
              <a:rPr b="1" lang="ru-RU" sz="4000" spc="-1" strike="noStrike">
                <a:solidFill>
                  <a:srgbClr val="e9deea"/>
                </a:solidFill>
                <a:latin typeface="Arial"/>
              </a:rPr>
              <a:t>в.»</a:t>
            </a:r>
            <a:endParaRPr b="1" lang="en-US" sz="4000" spc="-1" strike="noStrike">
              <a:solidFill>
                <a:srgbClr val="e9deea"/>
              </a:solidFill>
              <a:latin typeface="Arial"/>
            </a:endParaRPr>
          </a:p>
        </p:txBody>
      </p:sp>
      <p:pic>
        <p:nvPicPr>
          <p:cNvPr id="114" name="Picture 4" descr="C:\Documents and Settings\Бушова\Мои документы\научное общество учащихся\конф.Быкова\фото Кр.Яр\лавка захарова.jpg"/>
          <p:cNvPicPr/>
          <p:nvPr/>
        </p:nvPicPr>
        <p:blipFill>
          <a:blip r:embed="rId1"/>
          <a:stretch/>
        </p:blipFill>
        <p:spPr>
          <a:xfrm>
            <a:off x="1712880" y="1600200"/>
            <a:ext cx="6784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9deea"/>
                </a:solidFill>
                <a:latin typeface="Arial"/>
              </a:rPr>
              <a:t>«Красноярские учителя-герои фронта»</a:t>
            </a:r>
            <a:endParaRPr b="1" lang="en-US" sz="4400" spc="-1" strike="noStrike">
              <a:solidFill>
                <a:srgbClr val="e9deea"/>
              </a:solidFill>
              <a:latin typeface="Arial"/>
            </a:endParaRPr>
          </a:p>
        </p:txBody>
      </p:sp>
      <p:pic>
        <p:nvPicPr>
          <p:cNvPr id="116" name="Picture 4" descr="C:\Documents and Settings\Бушова\Мои документы\Документы сканера\Батюшков.jpg"/>
          <p:cNvPicPr/>
          <p:nvPr/>
        </p:nvPicPr>
        <p:blipFill>
          <a:blip r:embed="rId1"/>
          <a:stretch/>
        </p:blipFill>
        <p:spPr>
          <a:xfrm>
            <a:off x="3071880" y="1500120"/>
            <a:ext cx="42148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4:21:28Z</dcterms:created>
  <dc:creator/>
  <dc:description/>
  <dc:language>en-US</dc:language>
  <cp:lastModifiedBy>Бушова</cp:lastModifiedBy>
  <dcterms:modified xsi:type="dcterms:W3CDTF">2025-10-29T07:10:42Z</dcterms:modified>
  <cp:revision>5</cp:revision>
  <dc:subject/>
  <dc:title>ВОСПИТАНИЕ ГРАЖДАНСКО-ПАТРИОТИЧЕСКИХ КАЧЕСТВ ОБУЧАЮЩИХСЯ ПУТЕМ ИНТЕГРАЦИИ ИССЛЕДОВАТЕЛЬСКОЙ ДЕЯТЕЛЬНОСТИ И ИЗУЧЕНИЯ ИСТОР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52781049</vt:lpwstr>
  </property>
</Properties>
</file>